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6.wmf" ContentType="image/x-wmf"/>
  <Override PartName="/ppt/media/image15.jpeg" ContentType="image/jpeg"/>
  <Override PartName="/ppt/media/image14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DB07-CC80-48FF-A4A6-A82110CDC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552E-BD15-4FB8-86E5-BE3B54CA1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596C-A2F6-4C6B-9D1B-E82DA00B8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BC25-46BB-4243-BC71-7AEBDB28E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3381-AE7B-452E-AD97-BDE413B81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C89C-50FD-4DE4-84D2-E968B43D7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63B9-FC73-4AC4-BB24-4CC8474455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B62E-102A-439D-AC9B-EB3C1B03D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F0CA-B651-4DB4-BB2F-92EF2B794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7DFF-CD3D-46CC-B839-34406FAF8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A442-F153-4D1B-A08B-25639771B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971B-3F71-47D3-9866-AA9C0911A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577B-207D-4BE9-A701-B1C39AEC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4DE2-1D4A-4B57-94F5-F91839BC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53A3-B859-49C2-87BC-64C02B4D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16A8-9E82-4637-BF9F-E3F0B3B1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446-AAD8-4AA9-BAAA-86313812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90A4-7CDB-4C7A-B08E-BFFBBB62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8D3-4D16-4F65-903A-88C284BB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357-2E99-4732-87D5-F63BB9E3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D40-5CA8-443E-864D-E88A6FCC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D228-44E3-4FEC-B535-CD676B77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EBA-0A87-428A-BA2F-178E9D92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C46-4EFE-4EBD-9D97-2469F19F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2FA4-E371-4420-AAD4-68BC24824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Rhyme Ti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Program Files\Microsoft Office\MEDIA\CAGCAT10\j0234131.wmf"/>
          <p:cNvPicPr/>
          <p:nvPr/>
        </p:nvPicPr>
        <p:blipFill>
          <a:blip r:embed="rId1"/>
          <a:stretch/>
        </p:blipFill>
        <p:spPr>
          <a:xfrm>
            <a:off x="3048120" y="865080"/>
            <a:ext cx="338760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C:\Users\Hepner\AppData\Local\Microsoft\Windows\Temporary Internet Files\Content.IE5\3L8348RR\MPj04387200000[1].jpg"/>
          <p:cNvPicPr/>
          <p:nvPr/>
        </p:nvPicPr>
        <p:blipFill>
          <a:blip r:embed="rId1"/>
          <a:stretch/>
        </p:blipFill>
        <p:spPr>
          <a:xfrm>
            <a:off x="1600200" y="685800"/>
            <a:ext cx="5522760" cy="39718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fly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up in t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sky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Hepner\AppData\Local\Microsoft\Windows\Temporary Internet Files\Content.IE5\XV4UTWKM\MCj03319220000[1].wmf"/>
          <p:cNvPicPr/>
          <p:nvPr/>
        </p:nvPicPr>
        <p:blipFill>
          <a:blip r:embed="rId2"/>
          <a:stretch/>
        </p:blipFill>
        <p:spPr>
          <a:xfrm>
            <a:off x="3352680" y="1523880"/>
            <a:ext cx="221472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w it is your turn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se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e a sentence that rhymes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raw a picture to matc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Hepner\AppData\Local\Microsoft\Windows\Temporary Internet Files\Content.IE5\3L8348RR\MCj04038930000[1].wmf"/>
          <p:cNvPicPr/>
          <p:nvPr/>
        </p:nvPicPr>
        <p:blipFill>
          <a:blip r:embed="rId1"/>
          <a:stretch/>
        </p:blipFill>
        <p:spPr>
          <a:xfrm>
            <a:off x="3581280" y="3886200"/>
            <a:ext cx="898560" cy="930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epner\AppData\Local\Microsoft\Windows\Temporary Internet Files\Content.IE5\3L8348RR\MCj04038930000[1].wmf"/>
          <p:cNvPicPr/>
          <p:nvPr/>
        </p:nvPicPr>
        <p:blipFill>
          <a:blip r:embed="rId2"/>
          <a:stretch/>
        </p:blipFill>
        <p:spPr>
          <a:xfrm>
            <a:off x="4800600" y="3886200"/>
            <a:ext cx="89856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47920" y="487692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Comic Sans MS"/>
              </a:rPr>
              <a:t>cat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wearing a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omic Sans MS"/>
              </a:rPr>
              <a:t>hat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C:\Users\Hepner\AppData\Local\Microsoft\Windows\Temporary Internet Files\Content.IE5\XV4UTWKM\MPj04447820000[1].jpg"/>
          <p:cNvPicPr/>
          <p:nvPr/>
        </p:nvPicPr>
        <p:blipFill>
          <a:blip r:embed="rId1"/>
          <a:srcRect l="56623" t="26450" r="0" b="8320"/>
          <a:stretch/>
        </p:blipFill>
        <p:spPr>
          <a:xfrm>
            <a:off x="3429000" y="641520"/>
            <a:ext cx="236232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440" y="4114440"/>
            <a:ext cx="548640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ous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tting on 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hous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C:\Users\Hepner\AppData\Local\Microsoft\Windows\Temporary Internet Files\Content.IE5\A01RF3KD\MPj03144060000[1].jpg"/>
          <p:cNvPicPr/>
          <p:nvPr/>
        </p:nvPicPr>
        <p:blipFill>
          <a:blip r:embed="rId1"/>
          <a:stretch/>
        </p:blipFill>
        <p:spPr>
          <a:xfrm>
            <a:off x="3200400" y="914400"/>
            <a:ext cx="3657600" cy="170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C:\Program Files\Microsoft Office\MEDIA\CAGCAT10\j0185604.wmf"/>
          <p:cNvPicPr/>
          <p:nvPr/>
        </p:nvPicPr>
        <p:blipFill>
          <a:blip r:embed="rId2"/>
          <a:stretch/>
        </p:blipFill>
        <p:spPr>
          <a:xfrm>
            <a:off x="3657600" y="2209680"/>
            <a:ext cx="182880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e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0" descr="C:\Users\Hepner\AppData\Local\Microsoft\Windows\Temporary Internet Files\Content.IE5\60JF1WTJ\MCj03110200000[1].wmf"/>
          <p:cNvPicPr/>
          <p:nvPr/>
        </p:nvPicPr>
        <p:blipFill>
          <a:blip r:embed="rId1"/>
          <a:stretch/>
        </p:blipFill>
        <p:spPr>
          <a:xfrm>
            <a:off x="2743200" y="685800"/>
            <a:ext cx="3429000" cy="32097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486400" cy="14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be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at 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4114440"/>
            <a:ext cx="5486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duck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riding in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ruck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C:\Users\Hepner\AppData\Local\Microsoft\Windows\Temporary Internet Files\Content.IE5\A01RF3KD\MCj03379700000[1].wmf"/>
          <p:cNvPicPr/>
          <p:nvPr/>
        </p:nvPicPr>
        <p:blipFill>
          <a:blip r:embed="rId1"/>
          <a:stretch/>
        </p:blipFill>
        <p:spPr>
          <a:xfrm>
            <a:off x="4495680" y="1981080"/>
            <a:ext cx="1830600" cy="981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Hepner\AppData\Local\Microsoft\Windows\Temporary Internet Files\Content.IE5\68ZGCRBG\MCj03038350000[1].wmf"/>
          <p:cNvPicPr/>
          <p:nvPr/>
        </p:nvPicPr>
        <p:blipFill>
          <a:blip r:embed="rId2"/>
          <a:stretch/>
        </p:blipFill>
        <p:spPr>
          <a:xfrm>
            <a:off x="2514600" y="1828800"/>
            <a:ext cx="35812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C:\Users\Hepner\AppData\Local\Microsoft\Windows\Temporary Internet Files\Content.IE5\XV4UTWKM\MCj03354860000[1].wmf"/>
          <p:cNvPicPr/>
          <p:nvPr/>
        </p:nvPicPr>
        <p:blipFill>
          <a:blip r:embed="rId1"/>
          <a:stretch/>
        </p:blipFill>
        <p:spPr>
          <a:xfrm>
            <a:off x="2895480" y="2023920"/>
            <a:ext cx="3886200" cy="29862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440" y="44953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bug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tting on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440" y="54860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ug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C:\Users\Hepner\AppData\Local\Microsoft\Windows\Temporary Internet Files\Content.IE5\0DIV0T1J\MCj04380230000[1].png"/>
          <p:cNvPicPr/>
          <p:nvPr/>
        </p:nvPicPr>
        <p:blipFill>
          <a:blip r:embed="rId2"/>
          <a:stretch/>
        </p:blipFill>
        <p:spPr>
          <a:xfrm>
            <a:off x="3429000" y="1295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C:\Users\Hepner\AppData\Local\Microsoft\Windows\Temporary Internet Files\Content.IE5\0DIV0T1J\MCj02871950000[1].wmf"/>
          <p:cNvPicPr/>
          <p:nvPr/>
        </p:nvPicPr>
        <p:blipFill>
          <a:blip r:embed="rId1"/>
          <a:stretch/>
        </p:blipFill>
        <p:spPr>
          <a:xfrm>
            <a:off x="2362320" y="1905120"/>
            <a:ext cx="4343400" cy="2952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4648320"/>
            <a:ext cx="54864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ca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 the fry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440" y="56383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a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C:\Users\Hepner\AppData\Local\Microsoft\Windows\Temporary Internet Files\Content.IE5\A01RF3KD\MCj03000730000[1].wmf"/>
          <p:cNvPicPr/>
          <p:nvPr/>
        </p:nvPicPr>
        <p:blipFill>
          <a:blip r:embed="rId2"/>
          <a:stretch/>
        </p:blipFill>
        <p:spPr>
          <a:xfrm>
            <a:off x="4343400" y="1752480"/>
            <a:ext cx="17668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440" y="4190760"/>
            <a:ext cx="5486400" cy="117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o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at 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ho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Hepner\AppData\Local\Microsoft\Windows\Temporary Internet Files\Content.IE5\68ZGCRBG\MCj02376620000[1].wmf"/>
          <p:cNvPicPr/>
          <p:nvPr/>
        </p:nvPicPr>
        <p:blipFill>
          <a:blip r:embed="rId1"/>
          <a:stretch/>
        </p:blipFill>
        <p:spPr>
          <a:xfrm>
            <a:off x="3505320" y="533520"/>
            <a:ext cx="362880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44193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se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fro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tting on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440" y="55623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log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Users\Hepner\AppData\Local\Microsoft\Windows\Temporary Internet Files\Content.IE5\BOTRE3XY\MCj02395470000[1].wmf"/>
          <p:cNvPicPr/>
          <p:nvPr/>
        </p:nvPicPr>
        <p:blipFill>
          <a:blip r:embed="rId1"/>
          <a:stretch/>
        </p:blipFill>
        <p:spPr>
          <a:xfrm>
            <a:off x="3505320" y="2133720"/>
            <a:ext cx="2651040" cy="2146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Hepner\AppData\Local\Microsoft\Windows\Temporary Internet Files\Content.IE5\XV4UTWKM\MCj04247100000[1].wmf"/>
          <p:cNvPicPr/>
          <p:nvPr/>
        </p:nvPicPr>
        <p:blipFill>
          <a:blip r:embed="rId2"/>
          <a:stretch/>
        </p:blipFill>
        <p:spPr>
          <a:xfrm>
            <a:off x="3657600" y="1676520"/>
            <a:ext cx="19591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23:52:10Z</dcterms:created>
  <dc:creator>Hepner</dc:creator>
  <dc:description/>
  <dc:language>en-US</dc:language>
  <cp:lastModifiedBy>Hepner</cp:lastModifiedBy>
  <dcterms:modified xsi:type="dcterms:W3CDTF">2009-11-28T18:13:23Z</dcterms:modified>
  <cp:revision>14</cp:revision>
  <dc:subject/>
  <dc:title>Rhyme Time</dc:title>
</cp:coreProperties>
</file>